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A1A1-9A50-400B-B411-FE9381CE13E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242CF-D538-47F3-8D88-232BA892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4D1F1-0DF5-4530-B112-9BC68CB2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9433D-B990-4ADF-AE2F-752EF14F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2A977-2EEB-4F05-AB87-11F5D96A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3E607-70F3-44C8-89CB-DB28A4CD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57CCD-D67B-4E87-9F42-CB3D7566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BD396-08E4-474E-9260-5F6B6E1E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60C97-1B05-4542-911C-67679809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DC4E0-D10C-4DC6-BBE0-B0AE7984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2E5BD-520E-4E58-9E42-A6A009F7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12885-F158-4E18-8392-A7627287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5AE6-4B25-4D6E-A75C-32EB65A9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EE7CC-F51B-4786-A4E3-5E76857F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44E75-CFF0-46DF-8C51-75168F8D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C516F-E279-42BC-8BFF-FBAD7523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F9116-911F-4A9F-A9D6-047D6D6E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C2753-14CA-4743-8671-B20242FE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12F9EB-478F-4247-9398-2EA99BA4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2FA069-1C86-437C-89B2-6FC7D2C5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DD3AB4-1BC2-479E-802A-7F00CE76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841D77-92EB-49EE-81C2-0F5C236E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9DD621-6B27-4EA0-B2EB-2F4A65EC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747D9-BF19-4239-9315-1D98585D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9A10A6-AC8F-48B8-8FF5-C1D9D8A5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169B2C-C25D-4716-8015-46ECD2D7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851EC7-8CC6-4131-BDC6-E01F28C7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91EAAA-09ED-4898-92B5-CD53F03B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A0AD63-785E-47D0-BDC5-818F9B66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3812DC-0B85-4CD7-85FB-37D80D07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BC5ACF-06AE-4160-BA19-7950FC5C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B4D10-0426-4A37-94F3-0FA199E8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7FEBA-77D6-4E44-9172-C393E03B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1DC65-E9F7-4836-BB1C-C6E97BD0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5448B-B844-4BB6-8392-B7C064C2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C74A3-1750-4A68-8BBA-0628216B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BF927-3916-4103-9850-F9997FBD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22EA-0DE4-4750-A0A8-20FBD3E6472C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4199-CBFC-4A41-AE67-64547D064153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8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F721-DA98-4313-AEC8-219B56995C92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4985-0845-4918-8F9F-A79028A68DE2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8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A983-50B1-41DA-9DE5-7EB4A023F64C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2B88-EFA3-4301-B6F0-C9F09AE900B2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8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chase of Container Wago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Calcul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4280" y="6093000"/>
            <a:ext cx="2654280" cy="461880"/>
            <a:chOff x="134280" y="6093000"/>
            <a:chExt cx="265428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400" y="6308640"/>
              <a:ext cx="26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_2015-01-20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4280" y="6093000"/>
              <a:ext cx="102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cument title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D076-24D1-46D9-85C5-E186487F0C8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20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of values and net present value of variant B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0A5E-0577-42B5-A330-D7194D16205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Textfeld 5"/>
          <p:cNvSpPr/>
          <p:nvPr/>
        </p:nvSpPr>
        <p:spPr>
          <a:xfrm rot="20397600">
            <a:off x="64339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22320" y="2255760"/>
            <a:ext cx="98838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verview of results and comment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ther essential aspect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pects intentionally left out of the analysis, the impact of which is as follows: (…)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y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 present value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reak-even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years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year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positive value:  revenue,    negative values:  cost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break-even:   number of years until the alternative option becomes advantageou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annuity:  average annual cost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9A8C-6824-4A37-A31E-6D35D19B3D1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Textfeld 16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Performance Indicator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sponsible Departmen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intenance documentation 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a Origi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ariation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alternative option to basic op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y Performance Indicato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leage between reprofiling wheel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0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6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CFBA-5858-486A-A6A3-F388DA2BF93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7" name="Textfeld 1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fit-and-loss chart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Delta of variant “B” in relation to variant “A” [= zero lin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0272-81B9-49D6-895F-289A452EDA16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1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3" name="Picture 303" descr=""/>
          <p:cNvPicPr/>
          <p:nvPr/>
        </p:nvPicPr>
        <p:blipFill>
          <a:blip r:embed="rId1"/>
          <a:stretch/>
        </p:blipFill>
        <p:spPr>
          <a:xfrm>
            <a:off x="878040" y="1446120"/>
            <a:ext cx="8132760" cy="5189760"/>
          </a:xfrm>
          <a:prstGeom prst="rect">
            <a:avLst/>
          </a:prstGeom>
          <a:ln w="0">
            <a:noFill/>
          </a:ln>
        </p:spPr>
      </p:pic>
      <p:sp>
        <p:nvSpPr>
          <p:cNvPr id="354" name="Textfeld 4"/>
          <p:cNvSpPr/>
          <p:nvPr/>
        </p:nvSpPr>
        <p:spPr>
          <a:xfrm rot="20397600">
            <a:off x="6205320" y="58068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reak-even char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5CD2-251D-44EC-A5B1-00CBF2DEB62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Textfeld 4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649440" y="1447920"/>
            <a:ext cx="859788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is recommended to purchase the container wagon made by company B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lected Option / Recommend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cause of the radial adjustability of the wheelsets, the wear rate of the wheels is lower and the lifetime of the wheels and the reprofiling cycle are therefore considerably lo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ue to the higher quality of the container locks, maintenance expenditure is lower compared with the container wagon made by company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planatory Statement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eak-even:     13 year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verage Annual Savings     (Delta Annuity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rify financial optio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econdition for Implement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a purchase time schedule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tain approval from financial controlling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urther Procedure        Target Date / Responsibilitie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9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DF41-7926-4EB4-82A4-C9A515AE900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0" name="Textfeld 12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proval 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72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73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Compiled by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74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Traceability of implementati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75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76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/01/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9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 of Rail Technology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0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81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82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5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6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87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8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2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93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alidated by client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94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95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/01/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Rail Operato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9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400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401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Rail Operato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6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407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8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9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0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1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 of Rail Technology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2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3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14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1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C966-09A4-4D59-BFCD-A944B6A2A32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6" name="Textfeld 49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rchase of 85 new container flat wagons, each carrying 60’ in total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operator’s quality gate (filter) has been applied, only the container flat wagons of the two companies A and B remai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ent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onsible for the LCC calculation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s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/09/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ishe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/01/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Life Cycle Costs of both remaining wagons are to be calculated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Client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arting 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task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riginator of the LCC calculation, date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7320" y="6419880"/>
            <a:ext cx="494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ed,  A = Agreed  D = Decided,  P = Preconditions in place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c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D          P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E9BE-421C-49C6-99AB-D8B414552F33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16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 Framework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t relevant / relevant, but not part of the 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tained in the calcul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termined on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y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70040" y="244800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70040" y="32860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container locking 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54480" y="244800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 replacement of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54480" y="32860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single Sgns-type container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53040" y="41162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76520" y="40766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-type 380 container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of other parts of the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consumption while operat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k access charg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ading / unload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speed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832E-508B-4DF7-9AC2-D09CBACC440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34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duct Breakdown Structure / System Environment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ssis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unted par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carriag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eelse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872800" y="4218840"/>
            <a:ext cx="179604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872800" y="5515920"/>
            <a:ext cx="181512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2D81-3AE8-4721-8562-5B7FD6742B25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20"/>
          <p:cNvSpPr/>
          <p:nvPr/>
        </p:nvSpPr>
        <p:spPr>
          <a:xfrm rot="20397600">
            <a:off x="628164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614680" y="1484280"/>
            <a:ext cx="233676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. Oper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703600" y="1944720"/>
            <a:ext cx="2178000" cy="41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1 Energ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2 Staf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3 Clean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4 Making availab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 Insurance / 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t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6 Other Cos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 Infrastructure us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e segmen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bl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track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ipment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tru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cos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5041800" y="1484280"/>
            <a:ext cx="233676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I. Maintenan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7472520" y="1484280"/>
            <a:ext cx="233820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V. Product Failu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7548480" y="1936800"/>
            <a:ext cx="214812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n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1  Product Failu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2  Del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3  Malfunc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planned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1  Produc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2  Del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3  Malfun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00160" y="1496880"/>
            <a:ext cx="2315880" cy="468180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rchase 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316080" y="1949400"/>
            <a:ext cx="2116080" cy="41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One-off” preparation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produc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Recurrent” preparation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produc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assembly 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commissioning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posal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 utilis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5116680" y="1936800"/>
            <a:ext cx="212868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0 “One-off” prepar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ection / Diagnostic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entive maintenance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vic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entive 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4 Condition-based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ive 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7 Disposal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 utilis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system for vehicl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erne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CC cost blocks used for the calcul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49400" y="6194520"/>
            <a:ext cx="651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)  For simplicity’s sake, the term “purchase” also comprises residual costs as well as disposal / further utilisation.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272880" y="2998800"/>
            <a:ext cx="218304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5097600" y="4092480"/>
            <a:ext cx="2182680" cy="37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5089680" y="31590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2168-7BD6-4C17-90C9-2ECF38B4B591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Textfeld 15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urpose &amp; brief description of each op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rchase of a 60‘ container wagon with reduced maintenance expenditure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rchase of a 60‘ container wagon with well-known characteristics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rief descri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pared to the existing wagon type, both the lifetime of the wheels and the reprofiling cycle are extended. The reliability of container lockings will be significantly improve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lower investment cost may result in maintenance expenditure being the same as today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FB0A-4787-456A-848B-0DA7B3901425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Textfeld 11"/>
          <p:cNvSpPr/>
          <p:nvPr/>
        </p:nvSpPr>
        <p:spPr>
          <a:xfrm rot="20397600">
            <a:off x="48337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riants: list of principal difference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est rate:                 10%  (c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 rate:                   3%  (c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fe span of wagon:      25 year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nual mileage:          115,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nings are fixed and equivalent for both options. For this reason only the cost structure of the two options will be compared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marks concerning general assumptions for all options, comments and critical factor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ber of wheelse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of running gear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gie with two radially-adjustable wheelset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gie with two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ly-adjustable wheelset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of container lock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vanced” typ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 typ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ber of container locks per wa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4E96-0BB6-4AFC-B411-945ABAB56687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Textfeld 20"/>
          <p:cNvSpPr/>
          <p:nvPr/>
        </p:nvSpPr>
        <p:spPr>
          <a:xfrm rot="20397600">
            <a:off x="55195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osition of Cost and Cycle Data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st 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,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,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ventive maintenance: replacing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er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er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92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 survey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ventive maintenance: replacing container lock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er container lock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185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er container lock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9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 survey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rrective maintenance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profiling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er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er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75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2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D24A-041E-4F45-89DD-C8CA5FFA44B0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22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of values and net present value of variant A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715D-0E03-4E69-B85A-037EA3163B9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Textfeld 4"/>
          <p:cNvSpPr/>
          <p:nvPr/>
        </p:nvSpPr>
        <p:spPr>
          <a:xfrm rot="20397600">
            <a:off x="5976720" y="58068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1"/>
          <a:stretch/>
        </p:blipFill>
        <p:spPr>
          <a:xfrm>
            <a:off x="22320" y="2252520"/>
            <a:ext cx="987876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3T13:14:47Z</dcterms:modified>
  <cp:revision>83</cp:revision>
  <dc:subject/>
  <dc:title>Slide 0</dc:title>
</cp:coreProperties>
</file>